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A52-E600-4979-B394-32FE4420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12D-BF1E-425E-B47F-28CC321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4F883-AE93-4D92-9C4C-7D57D585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D070D-D788-48D6-94A1-D03D251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C10C3-5A4D-492A-82FF-F272D76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FA3E3-9C4D-4A9B-A48F-BA22709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E2FFC-2392-4CB7-83CD-2FD073F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66919-2102-4019-92A0-46E2619C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EF5FE-546F-4F0C-8971-AA57C76B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80D00-A87B-429A-94F3-EB1994FB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14881-AEAB-4541-BE57-A692ED24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DAB66-4FE0-4C21-9DC0-8E368EBB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402-5857-4C9A-9B2E-18CEEA34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00EF3-877B-48BD-AD20-2C064BE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59C1E-9EDB-4955-876F-FE7463E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3A973-22E5-49D5-8C61-9A43F81B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FD399-2CF3-4FBD-B912-948E304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C7412-D7FC-44FF-8B55-F122E026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0A429-2315-43E9-B961-FB7193B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C74A-966D-49CB-850E-B4F2997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63982-2510-473C-B4BB-5D6A9D6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B6E5B-2DD0-43EA-9CE9-5C2995C3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FC399-9170-4E71-A2BC-F6F6F88A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C4A-8483-4652-A215-97C094CA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3A265-4EB8-4FB4-900F-02E22153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03EED-3D5A-486C-8116-4EAE02B7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36222-C05C-4FE8-B374-A97E2645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B46AA-6672-4317-916D-E7A8291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B82E-54E2-4D7A-B114-F9D6529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B15BC-A963-4B83-A949-172064C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83ECC-86CD-47D9-8D17-378BE30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87A5C-A0E0-4589-8879-F9AA6F5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B074E-E2E7-4036-A517-03B9956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71C78-3171-4729-BE6C-E1D54E8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38B-DC6C-43BE-BB80-745554DC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4FB5C-5F0B-4A7B-9EE0-7C207BCC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25876-BE33-4D73-A9E8-1697A8ED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00A1E-9EA2-45C1-8B31-4F4B18B8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5B8FA-E53B-4EFD-9AAB-A074975E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D9094-70E0-4706-AAA0-64631AFE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ECEC4-0C71-4865-BA90-3F06AD3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21588-4EE9-42D3-9CA8-0838F22E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27A00-8A27-4B39-9A1E-0383842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F86D5-CDED-415E-9B45-9F4F7D6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48080-250F-47C0-9892-F053ED2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8931-AA8C-4898-88C3-AAD25C84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BC2F7-55BE-430E-B032-6B1EBA5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098A5-9C8C-4986-9341-D20A16D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1D717-68DC-464C-8B79-67FE4079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D994C-2007-4822-A7E0-4B9C9CA0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13761-383A-44A0-948C-39BCA793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B4BB-1CD4-47A6-85C2-7AF1FB57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9195-AFD6-4ADD-A1A9-1F815664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3168-5E79-4C72-902E-DCD4F1A4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C38A-95BC-4A52-AF19-BCC7306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5E53-14D6-4539-9E9C-A57BB020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ECF-3F63-4FBB-A582-154CD03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9AE-0D19-4AB5-ACEE-1C7ACECD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FC2-3F6A-42FD-9B1E-C4B3D305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9C34-45C7-417E-A09F-7AE443F1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897-DF0E-4C4A-97B6-8A4EB144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C0AB-5AD9-4D9E-A0E8-17257B8A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9920-6F57-4DE7-AD05-38163BCE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1D4E-0C35-4D27-A0FF-6920066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6F30-A1DE-426D-94DA-A9F4F139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6D08-0192-45E9-8FBF-9678584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BFC8-EF31-4A6D-BDB0-454258ED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BF7-1D0F-45EB-A4B7-4729653C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61CB-0769-40A3-8EA6-D958E42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A4DE-D1A7-489F-AD1F-98A7DB4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62F8-C130-41E8-A6E3-14D1C50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B17A-EA82-4A97-9212-7732A31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DA8B-A665-45E1-ACF6-5CD9C34D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3DE3-110F-413B-AC68-ED4A3840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2946-78B6-4DF6-8A3B-89A08BAA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CBF8-4B6B-40EB-BAFC-6C126587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2C1B-DB62-4742-935E-7CB0D264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DD8B-9482-4621-9021-FA0E7DF5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D5D-F0E6-40D2-8F3E-12809447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6352-4025-433D-BDF7-B80A92A3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3D4F-97E5-40D5-9C73-DF8197A3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0E35-5758-4F64-BD80-19775F1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DC25-CC5C-4AAF-98B3-EA65C402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6594-7D0F-426A-BCCB-D00AD3D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A89B-C78E-4349-8F5B-644A233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4CD1-DEF1-49CA-B66C-7C1FB0B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A0A3-08E7-4B59-8EF0-63995260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BE6C-A91E-4F5F-8E9B-F49CB5CC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36E9-DDE5-4290-8041-EED25DFA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176-F9B4-4FFF-9039-10C5E031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3A83-2891-430A-9C1A-A6A8BB3D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2557-7258-4125-922C-C8300AD7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0C0E-82E3-4873-BCBB-A164551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8ED7-78FB-4821-81DD-306A642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5AC7-8153-48EC-8470-7155774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6D1D9-9CCE-4D1B-950D-12A9855E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BA36-1469-47FA-AA64-CBCD226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C344-7156-4D65-8147-6B189047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FD807-8D31-4FDA-BA9F-A98B8D0B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6742-612B-476C-964D-73478419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480-51E9-44B8-9C9C-E0B69A6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9D92-39C5-4E30-B4D9-D4009782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032BA-0123-4861-9E7C-7C0517B9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280C-A0A3-4894-8D55-5DFCD75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5434-B31D-4990-A33B-E4521A36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0A58-C062-4E59-A7F8-21FB1F8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5313-FE90-4881-88B7-71E6D162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73B6E-AB12-4409-811C-1191E2B7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73C9D-DB9B-46CB-9E8F-4E63B9C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C05B-170B-4898-9950-111E6B8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5F63-9486-4727-939E-B30D359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FE4-8F3D-4933-B030-4C9D087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8038-E852-4079-810F-837F5B6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F526-7890-48D3-B6FB-EEA92516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18B81-D567-48FE-BC10-02048606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18FB-69EB-49FC-8817-332EFF22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81FF-4673-4CC6-A03D-1B9B126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307B-3CD5-429F-8451-757ECADB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3C96-4C01-4C4D-B2D3-F92B83A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C6F8-4B22-41BF-9E3F-D5E27B7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EA76E-5AA6-4B0E-8A4F-AD3AE768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0BB89-1BEB-4380-8F10-C1447FD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460-911E-4B79-BBBD-F3A8B7D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BD6A1-F4FE-4F13-BBF8-31164DC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D6FFE-DB91-4391-B3B8-72DE5B0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19E1-690C-4633-B9F3-DF0A4017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DAEBF-493E-4B30-A3A8-831A9C8B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7FBA5-7485-4D52-AD78-64996900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09E7C-62ED-4D0B-944E-91353EA0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A544-A4F0-4C7D-A28E-0B32F55B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1FE2-57F1-470C-BABB-5DCCC7B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A4E5B-4EE0-4BDE-AFB0-044FC49A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35CC-B9B1-4767-89B5-87A3CA3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EF1-38FC-40B3-9010-BFEBC92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E9BE6-0130-48F7-BF91-25064B56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9F7B1-40BC-4B72-9C05-CF81504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F7AB0-B8B4-4787-91D3-63B24166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AB5F-6AEC-47B9-8E65-8ECF2E9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C803-2958-45C7-A664-089D4F2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85C4B-7C61-4576-A18C-56EC986B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9754-2B04-4CBE-B8A1-6BDEA71A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0A398-7DDA-48FD-B50C-C44E7CD0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44E6D-1894-404F-BB19-A91CD3C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8465F-942F-4470-8960-733C33FF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9166-11AB-4825-8599-C2CC8E3103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DCA-2B22-41C7-8817-6373BFB460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A24-1244-4A4E-B08A-73EE191A36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A5A7-D6AD-4FA7-AC22-8FB2A48917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B1AA-0C8A-4C38-8890-30BE30E8E8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C217-F49C-48B2-8008-C0EA7E42F8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0881-E4F7-4AD9-9DC3-D304FA46AA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EDC-E1C5-47CA-958F-516778D9CB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B4E5-92B3-4C36-B98C-0CB3E39611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782-694B-47EC-B911-2CE1C0A92D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E04A-40BF-463B-B236-9596ECE973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A968-5821-473A-A3E7-861E9C107E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0 Na milosť tvoju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ilosť tvoju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očakáv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tane sa čo 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a dúf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súžení sme, v ž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úcit s nami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ôľ, utrpenie vzdiali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voju milosť d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únava nás zmá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ápas ťažký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áruč nezatvár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ť novú silu v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vodcom naším stály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dopraj z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mieme raz ťa chvá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ečnej rad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48:55Z</dcterms:modified>
  <cp:revision>22</cp:revision>
  <dc:subject/>
  <dc:title>Je veľký náš Pán, on slávy je Kráľ Nech do všetkých strán  spev vrúcnych znie chvál.</dc:title>
</cp:coreProperties>
</file>